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786B-421E-4EC5-B5FA-EE3F8D515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F40E-B8E9-43C6-9877-2E0333001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6F53-3AE7-4441-B451-75D77BD63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8284-4965-4DCF-A7FD-BCBFCA6CF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C689-89EB-4989-AF8B-592B55D5C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1911-391E-4FB3-8F62-67568195C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2BFA-5909-40E1-ADC0-CB03B0936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B572-9802-49C2-A385-573021DF5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1A6C-E976-4A88-BDF5-A511027F5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981C-9F2D-436A-ABE9-28E545785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52F8-F697-4FD4-BD29-BEFA5B890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DF5A-F3A6-4824-BCA9-45DED3950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F65F-5D5D-49EC-BE94-2F15F8F704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60C-C210-46BF-95FD-D8BFCD878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and 5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1A51-80E8-47DF-A9E2-DE1A11D3C0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AD14-B88D-4261-8871-E303DD336A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and 6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780-34BB-43ED-94E5-84C13988BA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43AB-1AB9-4B77-BA71-FB6E9F49B2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228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Mathematical Processes Packag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BA8-C0E6-485E-9A9C-F5ADEDBBEE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13F-A607-4873-ABF2-2A1330FD2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DFCE-89E2-41D4-A19E-9F4BAE9824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CE4-515A-4B5F-873E-3B215AF56B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53416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on Keepin’ Tabs which have been numbered for ident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Using BLM PR3.3,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</a:t>
            </a:r>
            <a:r>
              <a:rPr b="1" i="1" lang="en-CA" sz="2200" spc="-1" strike="noStrike" u="sng">
                <a:solidFill>
                  <a:srgbClr val="ff0000"/>
                </a:solidFill>
                <a:uFillTx/>
                <a:latin typeface="Arial"/>
              </a:rPr>
              <a:t>appropriat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ox. </a:t>
            </a:r>
            <a:r>
              <a:rPr b="1" i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Remember the Math Process Feedback CARDS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BC61-497D-46DC-BD6C-C34C3AC0D6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DA2-29FA-449F-B4AF-ACE3C97D2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</a:t>
            </a:r>
            <a:r>
              <a:rPr b="1" i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with marke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on the  11x 17 paper (be sure to put the </a:t>
            </a:r>
            <a:r>
              <a:rPr b="0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student sample number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len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6AD-C55D-46F8-AD46-61F0F50F2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3D9-5447-4141-8858-DC9F9094D9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6 by taking one person from each Expert Group table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B1E9-94E1-4363-8A7C-0771A0ADD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D857-C437-47D0-8CB1-ADB4E6711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8314-0F57-49EA-AFFB-2B40BD4595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86C8-6E67-4A4D-9A54-F2B04109EC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8B2-32E0-478B-B757-DD9B4D1D9A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A01-B9D0-4485-B8E0-149285057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DF96-197A-4A2C-B219-7B09935044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78E-F6B3-4B5A-B8F0-58D547858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0CBA-19E6-4164-8363-B567B67B94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489-BAD5-419A-A8B6-E4E58F51C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8F4A-B2BA-43B3-8ECE-F308164327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131E-5D74-436E-99AB-11901175FF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00B6-70C3-482B-8F70-B518D0C6DA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68BB-8F3E-43F2-A876-9763C4BA1B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AD7F-D406-4987-B209-ECFFF8C53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5AB4-60A2-4F2B-A696-8736038781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 Clapping on appropriateness of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ore each out of 10 and then average to give one final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lume is appropriate for the give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hythm matches the mood for the given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a score for each criteria along with feedback on how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383-FBFA-4498-A30D-4FD2586E7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245-4472-4943-9257-1EA735DF2E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F2F5-2DE0-4350-8B9A-B40D422404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1EA-95AC-4138-9099-2487DA597E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2223-3588-43B6-A9E2-5D2D8E1F8B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D53-6686-4A06-A916-3794E1A34A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,4,5,6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and 4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ABA-9D60-49DB-AD51-C6453C0DA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7EFF-D951-4CD4-ABEB-B4AB54AE25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9T02:59:43Z</dcterms:modified>
  <cp:revision>39</cp:revision>
  <dc:subject/>
  <dc:title>&lt;Title&gt;</dc:title>
</cp:coreProperties>
</file>